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B5B3905D-E9AD-421B-A831-2FCF6AD2AA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0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2080" cy="37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200" y="167616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200" y="3937320"/>
            <a:ext cx="25225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83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440" y="393732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440" y="1676160"/>
            <a:ext cx="382284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37320"/>
            <a:ext cx="7834320" cy="206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4628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527A69E-A821-408A-8D3C-D6E47938137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8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3432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rogrammeerimiskee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283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94880" y="873000"/>
            <a:ext cx="5748480" cy="4905360"/>
            <a:chOff x="1694880" y="873000"/>
            <a:chExt cx="5748480" cy="4905360"/>
          </a:xfrm>
        </p:grpSpPr>
        <p:sp>
          <p:nvSpPr>
            <p:cNvPr id="114" name=""/>
            <p:cNvSpPr/>
            <p:nvPr/>
          </p:nvSpPr>
          <p:spPr>
            <a:xfrm>
              <a:off x="169488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9640" y="2279520"/>
              <a:ext cx="1060560" cy="5270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57640" y="1482840"/>
              <a:ext cx="1060200" cy="67932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43160" y="1371600"/>
              <a:ext cx="0" cy="9018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5760" y="1930320"/>
              <a:ext cx="434880" cy="5954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240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91080" y="2168640"/>
              <a:ext cx="511200" cy="831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08400" y="2778120"/>
              <a:ext cx="12049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</a:t>
              </a: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57760" y="3200400"/>
              <a:ext cx="0" cy="444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7760" y="4191120"/>
              <a:ext cx="0" cy="825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6680" y="5022720"/>
              <a:ext cx="4338360" cy="755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756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08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2040" y="1371600"/>
              <a:ext cx="0" cy="9018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6496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7136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11720" y="2895480"/>
              <a:ext cx="768240" cy="1396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2876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360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484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92400" y="2435400"/>
            <a:ext cx="68580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7388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432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mpileerimise faa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60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1093680"/>
            <a:ext cx="4719600" cy="567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näitesi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Olgu meil programmiju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b ≠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a &gt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:= a −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:= b −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66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731880"/>
            <a:ext cx="784872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xer jagab teksti “sõnadeks” ja parser ehitab neist pu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71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9720" y="2651040"/>
            <a:ext cx="804852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arser ehk süntaksianalüüs: süntaksi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arser ehi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ällu süntaksipu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mida siis eda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öödeld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177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1141560"/>
            <a:ext cx="5932440" cy="54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eldetuletus: puud mä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iin näitepuus koosneb iga element väärtusest ja kahest mäluaadressist. Null tähistab aadressi 0, mida normaalselt aadressina ei kasut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299520"/>
            <a:ext cx="7763040" cy="304920"/>
            <a:chOff x="914400" y="299520"/>
            <a:chExt cx="7763040" cy="304920"/>
          </a:xfrm>
        </p:grpSpPr>
        <p:sp>
          <p:nvSpPr>
            <p:cNvPr id="183" name=""/>
            <p:cNvSpPr/>
            <p:nvPr/>
          </p:nvSpPr>
          <p:spPr>
            <a:xfrm>
              <a:off x="914400" y="598320"/>
              <a:ext cx="775836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77440" y="299520"/>
              <a:ext cx="0" cy="3049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keeles X kirjutatud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varianti keeles X programmi täitmi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kompilaator teisendab keeles X programmi masinkoodfailiks Y. Seejärel täidetakse saadud masinkoodis programm Y. Nä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Fortran, G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preteerimi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asinkoodis programm nimega interpretaator loeb sisse X keeles faili, teisendab 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ö pseudo-assembleriks / vahekoodi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asub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d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rianti rida-realt täitma. Näited: Python, PHP, Perl, vanemad Javascripti mootorid j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interpreteerimine on ca 10-200 korda aeglasem, kui kompileeritud koodi täitm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tteliselt saaks igas keeles kirjutatud programme nii interpreteeritult täita kui kompileer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as eelistatakse vahel interpreteerimist, vahel kompileerim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14400" y="417600"/>
            <a:ext cx="7765920" cy="311040"/>
            <a:chOff x="914400" y="417600"/>
            <a:chExt cx="7765920" cy="311040"/>
          </a:xfrm>
        </p:grpSpPr>
        <p:sp>
          <p:nvSpPr>
            <p:cNvPr id="189" name=""/>
            <p:cNvSpPr/>
            <p:nvPr/>
          </p:nvSpPr>
          <p:spPr>
            <a:xfrm>
              <a:off x="914400" y="7225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80320" y="4176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Olgu meil väike näite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1,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or 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Hello"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417600"/>
            <a:ext cx="7765920" cy="311040"/>
            <a:chOff x="914400" y="417600"/>
            <a:chExt cx="7765920" cy="311040"/>
          </a:xfrm>
        </p:grpSpPr>
        <p:sp>
          <p:nvSpPr>
            <p:cNvPr id="194" name=""/>
            <p:cNvSpPr/>
            <p:nvPr/>
          </p:nvSpPr>
          <p:spPr>
            <a:xfrm>
              <a:off x="914400" y="7225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680320" y="4176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762120"/>
            <a:ext cx="7848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eeldetuletu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eelmis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loengu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protsessor ja assemble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ja andmestruktuu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mpileerimine vs interpret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e suur pi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opulaars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eelte põhiideed ja nä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58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hekood Pythoni näi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762120"/>
            <a:ext cx="8001000" cy="76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hekood kommentaar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de   6404005c02005a00005a0100650000700700016501006f0d00016402004765000047486e010001640300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           0 LOAD_CONST               4 ((1, 0)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UNPACK_SEQUENCE         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 STORE_NAME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9 STORE_NAME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          12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5 JUMP_IF_TRUE             7 (to 25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 LOAD_NAME                1 (b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 JUMP_IF_FALSE           13 (to 38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25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          26 LOAD_CONST               2 ('Hello'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9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0 LOAD_NAME                0 (a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3 PRINT_I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4 PRINT_NEWLI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5 JUMP_FORWARD             1 (to 39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8 POP_T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gt;&gt;   39 LOAD_CONST               3 (Non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2 RETURN_VAL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14400" y="417600"/>
            <a:ext cx="7765920" cy="311040"/>
            <a:chOff x="914400" y="417600"/>
            <a:chExt cx="7765920" cy="311040"/>
          </a:xfrm>
        </p:grpSpPr>
        <p:sp>
          <p:nvSpPr>
            <p:cNvPr id="199" name=""/>
            <p:cNvSpPr/>
            <p:nvPr/>
          </p:nvSpPr>
          <p:spPr>
            <a:xfrm>
              <a:off x="914400" y="7225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80320" y="4176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programmi täidetak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erpreteerimise 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mpromissvaria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ndi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kompileerib X fail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he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Y, seejärel interpreteeritakse vahekoodi Y (Python, Jav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 interpreteerib vahekoodi Y, ku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b töö ajal osa Y-st masinkoodi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seejärel täidab (Java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C#, Firefoxi Javascrip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 nn just-in-time compilation ehk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I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hrome V8 Javascript kompileerib algul kogu programmi masinkoodiks kiire kompilaatoriga, seejärel kompileerib töö käigus selgunud kriitilised kohad aeglasema optimeeriva kompilaatoriga, mis annab kiiremini töötava tulem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204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ing and description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ing languag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in the familiar sens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ortran, C, Java, C#, Python, Javascript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57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scription language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.e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t for programm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xt layout: 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 layout nuances: 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base query tasks: 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 representation: 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c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et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209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escription language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son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 for data re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{“name”: “John Smith”, “age”: 35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ddress”:  {“city”:”Tallinn”, “street”: “Mere”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 for text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1&gt;Pealkiri&lt;/h1&gt;&lt;p&gt;üks &lt;b&gt;bold sõna&lt;/b&gt;&lt;/p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for database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ect name, age  from persons where age&gt;1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57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214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nii palju keel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valdkondade / eesmärkide jaoks ei ole ühte ideaalset ke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eerijate eelistused on erine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ka DSL (domain specific languag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en.wikipedia.org/wiki/Domain-specific_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1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kolm põhi-erinevustee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uidas kirjutatakse näitek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f .. then .. el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ühes või teises keele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hk tähendus (mida õigesti kirjutatud programm tegelikult siis teeb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egid (libraries)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millised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lmisprogrammijup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lle keele jaoks kergesti kättesaadavad või kohe kaasa pandu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22240" y="731880"/>
            <a:ext cx="7766280" cy="311040"/>
            <a:chOff x="822240" y="731880"/>
            <a:chExt cx="7766280" cy="311040"/>
          </a:xfrm>
        </p:grpSpPr>
        <p:sp>
          <p:nvSpPr>
            <p:cNvPr id="224" name=""/>
            <p:cNvSpPr/>
            <p:nvPr/>
          </p:nvSpPr>
          <p:spPr>
            <a:xfrm>
              <a:off x="822240" y="103644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588520" y="73188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ilised asjad igas normaalses kee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762120"/>
            <a:ext cx="7848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imitiivsed andmetüüb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, char etc (näiteks: 1 ja –3 on int-id, ‘c’ ja ‘a’ on char-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ing  (näiteks “aaa123bb”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siiv  (näiteks a[1]=2; a[2]=20; a[3]=15;  y=2; x=a[y]+a[1]+3;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valdis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x = (y*2) – (5+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sed juhtkonstru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alik:  if ... then ... el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sükkel:   while(x&lt;10)  x=x+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on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efineerime:  int kuup(int x) { return x * x * x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:  x = kuup(1+kuup(3))+kuup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me rekursiivse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5480" y="457200"/>
            <a:ext cx="7765920" cy="311040"/>
            <a:chOff x="825480" y="457200"/>
            <a:chExt cx="7765920" cy="311040"/>
          </a:xfrm>
        </p:grpSpPr>
        <p:sp>
          <p:nvSpPr>
            <p:cNvPr id="229" name=""/>
            <p:cNvSpPr/>
            <p:nvPr/>
          </p:nvSpPr>
          <p:spPr>
            <a:xfrm>
              <a:off x="82548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59140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avõimalused eri keel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762120"/>
            <a:ext cx="7848720" cy="80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ired bitioperatsioonid, otsepöördumine mälu kallal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eerulisemad andmetüübid: listid, hash tabelid jne: Lisp, Python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konstruktsioonid stringitöötluseks: Perl, PH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bjektid: C++, Java, C#, Python, Li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odulid (enamasti ühendatud objektidega): C++, Java, C#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eatöötluse konstruktsioonid (exceptions): Python,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ahikoristus: kasutamata andmed visatakse välja (Java, Python, Lisp,  ...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isse-ehitatud tugi paralleelprogrammide jaoks: Java, C#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aalaja-erivahendid: 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mplates” (programm tulemuse sees): PHP, JSP, Py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ute programmide konstrueerimine töö käigus: Lisp, Scheme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, Java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reeglid: Pro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aisk” viis funktsioone arvutada: Miranda, Hope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attern matching (viis funktsioone defineerida): ML, Hask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jn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14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3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tran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TR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3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BOL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B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 USING N, Answ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FORM VARYING LoopCount FROM 0 BY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TIL LoopCount GREATER THAN 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ULTIPLY Answer BY LoopCount GIVING Answ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-PERFOR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 PROGRA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4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63" name="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SP: summeeri arve 0…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4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 (ja C++ ja Java ja C#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5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5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Modula-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64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A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269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f sumto(n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 in range(n+1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=sum+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s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274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ythoni vahekood: keerukamat lisalugem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762120"/>
            <a:ext cx="784872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nedbatchelder.com/blog/200804/the_structure_of_pyc_fil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infohost.nmt.edu/tcc/soft/pythondoc/lib/bytecode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www.python.org/dev/peps/pep-033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s://arxiv.org/pdf/1306.6047v2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1160" y="600120"/>
            <a:ext cx="7766280" cy="311040"/>
            <a:chOff x="911160" y="600120"/>
            <a:chExt cx="7766280" cy="311040"/>
          </a:xfrm>
        </p:grpSpPr>
        <p:sp>
          <p:nvSpPr>
            <p:cNvPr id="279" name=""/>
            <p:cNvSpPr/>
            <p:nvPr/>
          </p:nvSpPr>
          <p:spPr>
            <a:xfrm>
              <a:off x="911160" y="904680"/>
              <a:ext cx="775980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677440" y="60012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68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73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301680"/>
            <a:ext cx="7765920" cy="303120"/>
            <a:chOff x="914400" y="301680"/>
            <a:chExt cx="7765920" cy="303120"/>
          </a:xfrm>
        </p:grpSpPr>
        <p:sp>
          <p:nvSpPr>
            <p:cNvPr id="78" name=""/>
            <p:cNvSpPr/>
            <p:nvPr/>
          </p:nvSpPr>
          <p:spPr>
            <a:xfrm>
              <a:off x="914400" y="60156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0320" y="301680"/>
              <a:ext cx="0" cy="3031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grammeerimiskeeled on inimeste jaok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rvuti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 saa programmeerimiskeelest midagi aru. Talle on vaja masinkood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Programmeerimiskeeled on selleks, et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imestel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oleks lihtsam programme kirjutada ja nendest pärast aru sa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457200"/>
            <a:ext cx="7765920" cy="311040"/>
            <a:chOff x="914400" y="457200"/>
            <a:chExt cx="7765920" cy="311040"/>
          </a:xfrm>
        </p:grpSpPr>
        <p:sp>
          <p:nvSpPr>
            <p:cNvPr id="83" name=""/>
            <p:cNvSpPr/>
            <p:nvPr/>
          </p:nvSpPr>
          <p:spPr>
            <a:xfrm>
              <a:off x="914400" y="76176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0320" y="4572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õrgkeel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762120"/>
            <a:ext cx="78487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utomatiseerivad ja lihtsustava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“harilikke” protseduure, mida assembleris programmeerides v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nna assembleriga analoogilist kontrolli masina ü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 on erineva abstraktsusastm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sinalähedane ja ebamugav:  Fortran, C  (portaabel assemb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bstraktsem ja mugavam:  Lisp, Ada, ML, Java, Python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14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le programmeerimiskeelte on veel hulk muid keel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2868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äringukeeled (SQL, RDQ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junduskeeled (HTML, PS, 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petsifitseerimiskeeled (loogikakeeled, UML, ..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297000"/>
            <a:ext cx="7765920" cy="311040"/>
            <a:chOff x="914400" y="297000"/>
            <a:chExt cx="7765920" cy="311040"/>
          </a:xfrm>
        </p:grpSpPr>
        <p:sp>
          <p:nvSpPr>
            <p:cNvPr id="88" name=""/>
            <p:cNvSpPr/>
            <p:nvPr/>
          </p:nvSpPr>
          <p:spPr>
            <a:xfrm>
              <a:off x="914400" y="601920"/>
              <a:ext cx="77594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0320" y="297000"/>
              <a:ext cx="0" cy="3110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ava programmi valm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640" indent="-27144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2868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0-15T06:38:24Z</dcterms:modified>
  <cp:revision>45</cp:revision>
  <dc:subject/>
  <dc:title>PowerPoint Presentation</dc:title>
</cp:coreProperties>
</file>